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75B-3BAA-4DD3-AD13-5C6CEA27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59D-9D26-484B-9F86-7E673096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EE9-CCC3-427A-916B-9A524223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7B3-6C25-40CB-80CF-19577167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2B6-0E67-4FFD-A766-BDE096A6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293-52E8-410D-AFBD-EB0A16D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60C-189C-4A61-A88A-55E32636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C08-F97E-432C-AB1D-79B0B14E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94B-93E3-43B8-9A49-65EFBF98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67D-740B-4A62-8E39-927D5ED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E4E-772B-480C-90A9-02415DF1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9F8-8DE4-4513-9798-D14911A0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EC6C-8D89-42A7-853C-A9037274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32004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ترحمُ شئتَ خلاصي بقيتَ في سرٍّ ما دام الب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إنني أحلمُ وسطَ حماسي أتوق لوجهِكَ بعد شق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528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73392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َرحمُ جئتَ تواسي وتسكُنُ فيّ وفيّ تطوف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الا استأصِلِ الشَّوكَ مني وأشعِ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صابيحَ حُبي فحُبّي ضعي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9718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َمُ تغفِرُ ذنبي ولا تنسى خيراً ولو كأسَ 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أُقرُّ بحُبكَ ربّي وهل غيرَ حُبكَ بابُ السماء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-142920"/>
            <a:ext cx="6400800" cy="700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59092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 ترحمُ تُبريءُ نفسي وتَغسِلُ إثمي بِطولِ أناة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ك تعلمُ ضعفي ويأسي تُشَدِّدُ عَزمي فمنكَ الثبات</a:t>
            </a:r>
            <a:r>
              <a:rPr b="0" lang="ar-SA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6700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0"/>
            <a:ext cx="2895480" cy="13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مُ جئتَ وضيعاً وأنت الإله القوي الأم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بوَعدِكَ أُدرك قلباً وديعاً فتملأُ قلبي إليكَ ح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8:45Z</dcterms:created>
  <dc:creator>SUZANNE.MD</dc:creator>
  <dc:description/>
  <dc:language>en-US</dc:language>
  <cp:lastModifiedBy>HANI SAFI</cp:lastModifiedBy>
  <dcterms:modified xsi:type="dcterms:W3CDTF">2003-03-14T12:26:44Z</dcterms:modified>
  <cp:revision>3</cp:revision>
  <dc:subject/>
  <dc:title>PowerPoint Presentation</dc:title>
</cp:coreProperties>
</file>